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wmf" ContentType="image/x-wmf"/>
  <Override PartName="/ppt/media/image19.jpeg" ContentType="image/jpeg"/>
  <Override PartName="/ppt/media/image1.jpeg" ContentType="image/jpeg"/>
  <Override PartName="/ppt/media/image4.wmf" ContentType="image/x-wmf"/>
  <Override PartName="/ppt/media/image20.gif" ContentType="image/gif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D657-01A3-4C76-9353-77DAE0BA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6927-2AF7-4118-9CD1-E94704C1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7050-7F07-474A-9533-632B1D4A8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37BD-D229-40CC-A79C-5C8ADACA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5091-85C6-4940-8BD8-61EF48B1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7811-463C-4EB7-8861-496CE8C8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9438-A94E-4D1B-BE50-5FE249DE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C9C5-C6DE-47C0-9742-78CC256C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5A34-BDE0-4E4A-B16F-E00BA55F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2D22-D1B0-4179-BA2E-AB4F5F15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67BA-078F-44F4-B048-F1624C86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870A-8499-4E08-8D9C-D76F7428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31DF-1DF1-4FEA-867B-C1737390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980C-DF9E-48F7-A2F3-2307CB8F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2E75-22FF-4ED8-A4F1-9466536C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54D2-C8FE-40A9-A20E-8C19BC15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CAB3-DAA9-4B3E-BDFD-B41CD97E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3650-F7A4-4BA1-B377-4939589C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C9B-B24E-49F9-B36D-6150746E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4863-2DFF-4F5C-AA53-4AACB266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E8F6-007A-46A3-9C89-5A03521D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5B7F-D94D-4C4C-9B88-6A1B8E57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0B2-A4D1-4D0C-89EA-92D728F5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4FE7-3CCF-496E-AC20-A2B4D196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FF9A-61EF-4B06-AC27-BB9C9D3A0B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94B8-3987-4439-94A4-804A94A870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jpe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ikompas.ru/img/compas/2008-04-04/pervoklassnik_deti/68016891_orig.jpg" TargetMode="External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javascript:open_window(&apos;products_pictures/hunir.jpg&apos;,381,397);" TargetMode="External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shkola.lv/index.php?id=364&amp;mode=news" TargetMode="External"/><Relationship Id="rId7" Type="http://schemas.openxmlformats.org/officeDocument/2006/relationships/image" Target="../media/image15.jpeg"/><Relationship Id="rId8" Type="http://schemas.openxmlformats.org/officeDocument/2006/relationships/hyperlink" Target="http://moikompas.ru/compas/pervoklassnik_deti" TargetMode="External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oikompas.ru/img/compas/2008-04-04/pervoklassnik_deti/83982022_orig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ekonbag.ru/index.php?productID=466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00720" y="692280"/>
            <a:ext cx="432108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молик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на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Евгеньевна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8"/>
          <a:srcRect l="18384" t="0" r="22371" b="0"/>
          <a:stretch/>
        </p:blipFill>
        <p:spPr>
          <a:xfrm>
            <a:off x="250920" y="907920"/>
            <a:ext cx="3844800" cy="4856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7737480" y="5445000"/>
            <a:ext cx="14065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6920" y="692280"/>
            <a:ext cx="7632720" cy="56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езульта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исследов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87280" y="139680"/>
            <a:ext cx="716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«А что у вас, ребята, в рюкзаках?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авильная осанка формируется в первые годы жиз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 формирование неправильной осанки оказывают влияние разные заболевания, неправильный режим дня, неправильное положение тела во время занятий, не соответствующая росту мебель, неудобная обувь и одеж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Осанку школьникам портя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тяжелые ранцы и особенно - портфели.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4360" y="981000"/>
            <a:ext cx="3816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ыбирае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анец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932360" y="2133720"/>
            <a:ext cx="392112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375840"/>
            <a:ext cx="8748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онечно, 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ране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удобнее 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портфеля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 нагрузка распределена равномерно, руки свободны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Times New Roman"/>
              </a:rPr>
              <a:t>Но как его правильно выбрать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При покупке следует обращать внимание не только на красоту и яркость, но, прежде всего, на 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функциональные качества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img_7" descr="">
            <a:hlinkClick r:id="rId2"/>
          </p:cNvPr>
          <p:cNvPicPr/>
          <p:nvPr/>
        </p:nvPicPr>
        <p:blipFill>
          <a:blip r:embed="rId3"/>
          <a:srcRect l="0" t="49423" r="47634" b="1987"/>
          <a:stretch/>
        </p:blipFill>
        <p:spPr>
          <a:xfrm>
            <a:off x="1908000" y="5229360"/>
            <a:ext cx="1343160" cy="1257120"/>
          </a:xfrm>
          <a:prstGeom prst="rect">
            <a:avLst/>
          </a:prstGeom>
          <a:ln w="0">
            <a:noFill/>
          </a:ln>
        </p:spPr>
      </p:pic>
      <p:pic>
        <p:nvPicPr>
          <p:cNvPr id="108" name="herk0d" descr=""/>
          <p:cNvPicPr/>
          <p:nvPr/>
        </p:nvPicPr>
        <p:blipFill>
          <a:blip r:embed="rId4"/>
          <a:stretch/>
        </p:blipFill>
        <p:spPr>
          <a:xfrm>
            <a:off x="5435640" y="5157720"/>
            <a:ext cx="12002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3534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9933"/>
                </a:solidFill>
                <a:latin typeface="Times New Roman"/>
              </a:rPr>
              <a:t>На всё </a:t>
            </a:r>
            <a:br>
              <a:rPr sz="8000"/>
            </a:br>
            <a:r>
              <a:rPr b="1" lang="en-US" sz="8000" spc="-1" strike="noStrike">
                <a:solidFill>
                  <a:srgbClr val="ff9933"/>
                </a:solidFill>
                <a:latin typeface="Times New Roman"/>
              </a:rPr>
              <a:t>есть свои нормы</a:t>
            </a:r>
            <a:endParaRPr b="0" lang="en-US" sz="8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698760"/>
            <a:ext cx="928836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од от года школьные ранцы становятся тяжелее. Исследования показали, что вес ранца с учебниками у учеников начальной школы достигает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5 - 6 кг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что почти в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 раза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превышает допустимые гигиенические нор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Это связан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с количеством учебных дисциплин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с наличием дизайнерского оформления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с наличием ненужных вещей в ранц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00000" y="620640"/>
            <a:ext cx="720108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Вес пустого ранца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1 - 4-х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классов -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30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г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5 - 6-х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классов -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400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г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7 - 8-х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классов -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500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г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10 - 11-х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классов - 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600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г.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63640" y="18900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гроза за спино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1054800"/>
            <a:ext cx="561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Большинство школьников носят ранцы, которые причиняют вред их здоровью, потому что ежедневная ученическая ноша слишком тяжела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Кроме того, перекос правого плеча ведет еще и к нарушениям осан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hunir" descr="Ранец Herlitz 10911485 Uni красный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5280" y="2060640"/>
            <a:ext cx="28987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55640" y="549360"/>
            <a:ext cx="7559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Мой эксперимен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493000"/>
            <a:ext cx="838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Изучив различную литературу по теме, я решила провести эксперимент и в своём классе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 нём участвовал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15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челове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332000" y="189000"/>
            <a:ext cx="64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л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эксперимен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9280" y="217692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Взвесить ранцы без школьных принадлежностей у учеников нашего клас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Проверить вес учебных пособий, необходимых по программе, и сравнить их с гигиеническими норм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В течение недели наблюдать за изменением веса ранца в связи с учебными нагруз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3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964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Исследовательская </a:t>
            </a:r>
            <a:br>
              <a:rPr sz="6000"/>
            </a:b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работа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92000" y="3141720"/>
            <a:ext cx="5327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Tahoma"/>
              </a:rPr>
              <a:t>«Моё                      здоровье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0920" y="3414600"/>
            <a:ext cx="3241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3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50920" y="333360"/>
            <a:ext cx="86421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Подвести итог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- самый правильный ранец (до 0,5 кг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- самый легкий портфе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- самый тяжелый ранец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- самый тяжелый ранец с принадлежностя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- самый легкий ранец с принадлежностя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- самый «тяжелый» учебный ден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99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самый «легкий» учебный ден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99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. Дать рекомендации детям, родителям и учител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923760"/>
            <a:ext cx="8424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Как же сохранить здоровье ученик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Для этого я рассчитала правильный вес ранца с принадлежностями по формуле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вес ранца меньше 10% веса ученик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(вес ученика надо умножить на 10 и разделить на 1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56720" y="18828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Данные  в табл. 1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403280" y="1052640"/>
          <a:ext cx="6306840" cy="5400720"/>
        </p:xfrm>
        <a:graphic>
          <a:graphicData uri="http://schemas.openxmlformats.org/drawingml/2006/table">
            <a:tbl>
              <a:tblPr/>
              <a:tblGrid>
                <a:gridCol w="2128680"/>
                <a:gridCol w="1411200"/>
                <a:gridCol w="1384560"/>
                <a:gridCol w="1382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учен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тел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кг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ый вес ранца (кг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вес ранца (кг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баев Дания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 Ир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ус Кирил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ман Ал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ецкая Анаста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юсюпова Сандугаш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арова Валенти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ов Владими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енко Паве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йлов Викто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еев Серг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йленко Иль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ик Ян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иргалин Арман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йка Юр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2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330480"/>
            <a:ext cx="69850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Я увидела, что вес «правильного» ранца  не у всех соответствует его реальному весу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Я решила выяснить: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ожет быть, причина излишней нагрузки  в том, что сам ранец слишком тяжел и взвесила все ранцы без школьных принадлежносте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88360" y="188280"/>
            <a:ext cx="663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Результаты приведены в табл. 2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0920" y="1125360"/>
          <a:ext cx="8713800" cy="5400360"/>
        </p:xfrm>
        <a:graphic>
          <a:graphicData uri="http://schemas.openxmlformats.org/drawingml/2006/table">
            <a:tbl>
              <a:tblPr/>
              <a:tblGrid>
                <a:gridCol w="3727800"/>
                <a:gridCol w="2080080"/>
                <a:gridCol w="2905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 уче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ранца (кг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вод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отбаев Дания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нер Ир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ус Кирил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ман Ал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ецкая Анастас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Слишком тяжел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юсюпова Сандугаш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.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харова Валенти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газинов Владими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юшенко Павел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йлов Викто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еев Серг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йленко Иль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олик Ян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иргалин Арман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Слишком тяжел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йка Юр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0,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Но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771640" y="15768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33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889200"/>
            <a:ext cx="878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Я увидела, что у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учеников вес ранца соответствует нормам, то есть не превышает условного веса 0,5 кг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Нашлись победители-легковесы весом всего 0,2 кг. Однако у </a:t>
            </a:r>
            <a:r>
              <a:rPr b="1" lang="en-US" sz="3200" spc="-1" strike="noStrike">
                <a:solidFill>
                  <a:srgbClr val="00c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человек вес ранца превысил гигиеническую норм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Ранцы-тяжеловесы могут стать причиной многих заболев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Могу сказать, что родители многих ребят побеспокоились о сохранении здоровья своего ребенка, в частности, его оса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165600"/>
            <a:ext cx="8713800" cy="63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А может быть, причина не только в ранцах, но и в учебных пособиях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Для этого я записала все учебные пособия, которыми пользуемся, и взвесила их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                             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«Литературное чтение» - 200 г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«Математика» - 230 г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                  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«Русский язык» - 300 г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«Окружающий мир» - 200 г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Дневник - 100 г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                             </a:t>
            </a: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«Английский язык» - 500 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се книги соответствовали гигиеническим нормам - 300 г для учеников начальной шко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Нашелся и «нарушитель» - учебник английского языка массой 500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8360" y="1989000"/>
            <a:ext cx="2531880" cy="25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8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123480"/>
            <a:ext cx="8569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Понаблюдав в течение недели за весом ранцев, я обнаружила, что самым тяжелым ранец бывает в </a:t>
            </a:r>
            <a:r>
              <a:rPr b="1" lang="en-US" sz="5400" spc="-1" strike="noStrike">
                <a:solidFill>
                  <a:srgbClr val="00ccff"/>
                </a:solidFill>
                <a:latin typeface="Times New Roman"/>
              </a:rPr>
              <a:t>четверг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и в </a:t>
            </a:r>
            <a:r>
              <a:rPr b="1" lang="en-US" sz="5400" spc="-1" strike="noStrike">
                <a:solidFill>
                  <a:srgbClr val="00ccff"/>
                </a:solidFill>
                <a:latin typeface="Times New Roman"/>
              </a:rPr>
              <a:t>суббот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. Самым легким ранец оказался во </a:t>
            </a:r>
            <a:r>
              <a:rPr b="1" lang="en-US" sz="5400" spc="-1" strike="noStrike">
                <a:solidFill>
                  <a:srgbClr val="00ccff"/>
                </a:solidFill>
                <a:latin typeface="Times New Roman"/>
              </a:rPr>
              <a:t>вторник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5400" spc="-1" strike="noStrike">
                <a:solidFill>
                  <a:srgbClr val="00ccff"/>
                </a:solidFill>
                <a:latin typeface="Times New Roman"/>
              </a:rPr>
              <a:t>пятницу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9640" y="333360"/>
            <a:ext cx="820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мендации 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еникам 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1698120"/>
            <a:ext cx="61196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Не носите лишнего в ранца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Проверяйте ранец ежедневно и не забывайте вынуть из него ненужные учебник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news" descr="NEWS PHOTO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1989000"/>
            <a:ext cx="1425600" cy="2160720"/>
          </a:xfrm>
          <a:prstGeom prst="rect">
            <a:avLst/>
          </a:prstGeom>
          <a:ln w="0">
            <a:noFill/>
          </a:ln>
        </p:spPr>
      </p:pic>
      <p:pic>
        <p:nvPicPr>
          <p:cNvPr id="134" name="avatar" descr="pervoklassnik_deti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380360" y="5086440"/>
            <a:ext cx="157140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780000" y="2060640"/>
            <a:ext cx="519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Не покупайте тяжелые ранцы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средний вес пустого ранца -  </a:t>
            </a: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300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г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От тяжелых нагрузок портится осан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- Пожалуйста, позаботьтесь о ваших детях и об их здоровье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img_0" descr="первоклассник, канцтовары, экипировка первоклассника, собркть ребенка в школу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832120"/>
            <a:ext cx="367200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Тема:</a:t>
            </a:r>
            <a:br>
              <a:rPr sz="6000"/>
            </a:br>
            <a:r>
              <a:rPr b="1" lang="en-US" sz="6600" spc="-1" strike="noStrike">
                <a:solidFill>
                  <a:srgbClr val="ffcc00"/>
                </a:solidFill>
                <a:latin typeface="Tahoma"/>
              </a:rPr>
              <a:t>«Сколько весит здоровье ученика?»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516720" y="4581360"/>
            <a:ext cx="24051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68360" y="1341360"/>
            <a:ext cx="83516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комендации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чителям и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ботникам школ </a:t>
            </a:r>
            <a:endParaRPr b="1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4000" y="92160"/>
            <a:ext cx="8640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Снизить вес школьных ранцев можно несколькими путя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использовать учебники и пособия, которые прошли  экспертиз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 использовать два комплекта учебников (один - в школе и один - дома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  составлении   расписания учитывать требования к весу учеб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организовать   хранение   сменной   обуви, спортивного инвентаря, принадлежностей для уроков труда, изобразительного искусств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9280" y="5040"/>
            <a:ext cx="8759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Я обозначила лишь некоторые направления решения этой пробле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ако острота ситуации может быть снята тогда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огда будет постоянно находиться в поле зрения учителей, родителей и учеников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rcRect l="50286" t="10732" r="0" b="8756"/>
          <a:stretch/>
        </p:blipFill>
        <p:spPr>
          <a:xfrm>
            <a:off x="2700360" y="2421000"/>
            <a:ext cx="34783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780000" y="1628640"/>
            <a:ext cx="5041800" cy="32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 внимание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27604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471960"/>
            <a:ext cx="84247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Исследовательскую  работу выполни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9933"/>
                </a:solidFill>
                <a:latin typeface="Times New Roman"/>
              </a:rPr>
              <a:t>Смолик Яна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ученица 3-го клас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(руководитель - </a:t>
            </a:r>
            <a:r>
              <a:rPr b="1" i="1" lang="ru-RU" sz="2800" spc="-1" strike="noStrike">
                <a:solidFill>
                  <a:srgbClr val="00ccff"/>
                </a:solidFill>
                <a:latin typeface="Times New Roman"/>
              </a:rPr>
              <a:t>И.В.Суровцева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МОУ «Павловская СОШ»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.Павловк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2287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1424160"/>
            <a:ext cx="84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Меня  волнует здоровье школьника - здоровье будущего покол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В своём исследовании я рассматриваю такие вопросы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imes New Roman"/>
              </a:rPr>
              <a:t>Как тяжёлый ране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imes New Roman"/>
              </a:rPr>
              <a:t>влияет на осанку ребёнка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imes New Roman"/>
              </a:rPr>
              <a:t>Сколько должен весить ранец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Times New Roman"/>
              </a:rPr>
              <a:t>Как правильно выбрать ранец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42920" y="189000"/>
            <a:ext cx="741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ыбор те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2085840"/>
            <a:ext cx="7775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Обратить внимание на сбережение здоровья (осанки) школьника путём ежедневного контроля тяжестей за спино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71640" y="620640"/>
            <a:ext cx="2448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Цел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176480"/>
            <a:ext cx="8713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1. Проанализировать данные в медицинской литературе по тем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Описать, как влияют тяжёлые ранцы на растущий организм ребёнка, к каким  последствиям это приводи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3. Доказать, что тяжелый портфель вредит здоровь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Предложить свои способы решения пробле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771640" y="189000"/>
            <a:ext cx="3240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адач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66560" y="2565000"/>
            <a:ext cx="867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Объект исследования: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человек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Предмет исследования: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осанка школьника -   основа здоровь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Участники исследования: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учащиеся 3 класс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333360"/>
            <a:ext cx="8136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бъект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предмет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исследов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067280" y="1981080"/>
            <a:ext cx="46195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Я предполагаю, что тяжёлый ранец вредит здоровью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974261s" descr="1074 R26 Рюкзак школьный + мешок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2133720"/>
            <a:ext cx="3370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9640" y="2203200"/>
            <a:ext cx="8280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* Анализ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* Опро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* Наблюде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* Сбор информ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Times New Roman"/>
              </a:rPr>
              <a:t>* Экспериме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71640" y="260280"/>
            <a:ext cx="720072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Мет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исследова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15:09:32Z</dcterms:created>
  <dc:creator>KM</dc:creator>
  <dc:description/>
  <dc:language>en-US</dc:language>
  <cp:lastModifiedBy>KM</cp:lastModifiedBy>
  <dcterms:modified xsi:type="dcterms:W3CDTF">2010-02-01T20:24:18Z</dcterms:modified>
  <cp:revision>95</cp:revision>
  <dc:subject/>
  <dc:title>Слайд 1</dc:title>
</cp:coreProperties>
</file>